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10CB-634D-4A66-BF3E-DE2B6BBFB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11A9-09E3-4B6A-AD0C-B87ACE1B8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5266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9-</a:t>
            </a:r>
            <a:fld id="{AC26C3EF-5055-4C73-A0B9-B90555E60155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9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 Management: Quality, Time, and the Theory of Constrai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lity As A Competitive Weap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38224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of quality (COQ) are costs incurred to rectify the production of of low-quality produ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 categories of COQ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evention costs (design and process engineer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ppraisal costs (inspection cost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ternal failure costs (spoilage and rework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ternal failure costs (warranty repair work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03 - 70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29528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95280"/>
            <a:ext cx="228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sig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ecifica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129528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atisfac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20968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f Desig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2209680"/>
            <a:ext cx="228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form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012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2590920"/>
            <a:ext cx="30492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590920"/>
            <a:ext cx="38124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2590920"/>
            <a:ext cx="3812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2590920"/>
            <a:ext cx="3045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hods to Analyze Quality Probl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8800" y="1371600"/>
            <a:ext cx="563112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tistical quality control (SQC) or statistical process control (SPC) employ control charts to monitor successive observations at regular intervals of ti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371600"/>
            <a:ext cx="0" cy="152388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00800" y="2895480"/>
            <a:ext cx="20574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0800" y="2133720"/>
            <a:ext cx="20574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1752480"/>
            <a:ext cx="2057400" cy="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2514600"/>
            <a:ext cx="2057400" cy="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1905120"/>
            <a:ext cx="75960" cy="759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220968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86600" y="2362320"/>
            <a:ext cx="76320" cy="759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220968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43800" y="198108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96080" y="175248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848720" y="1523880"/>
            <a:ext cx="7596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77320" y="1295280"/>
            <a:ext cx="7596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07 - 70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80880" y="3505320"/>
            <a:ext cx="8077320" cy="990360"/>
            <a:chOff x="380880" y="3505320"/>
            <a:chExt cx="8077320" cy="990360"/>
          </a:xfrm>
        </p:grpSpPr>
        <p:sp>
          <p:nvSpPr>
            <p:cNvPr id="81" name=""/>
            <p:cNvSpPr/>
            <p:nvPr/>
          </p:nvSpPr>
          <p:spPr>
            <a:xfrm>
              <a:off x="6629400" y="3657600"/>
              <a:ext cx="228600" cy="8380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086600" y="3809880"/>
              <a:ext cx="228600" cy="6858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543800" y="3886200"/>
              <a:ext cx="228600" cy="6094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001000" y="4191120"/>
              <a:ext cx="228600" cy="3045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00800" y="3505320"/>
              <a:ext cx="0" cy="9903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0800" y="4495680"/>
              <a:ext cx="20574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0880" y="3581280"/>
              <a:ext cx="56311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af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Pareto diagrams indicates the frequency of failures (defects)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380880" y="4724280"/>
            <a:ext cx="8458200" cy="1600200"/>
            <a:chOff x="380880" y="4724280"/>
            <a:chExt cx="8458200" cy="1600200"/>
          </a:xfrm>
        </p:grpSpPr>
        <p:sp>
          <p:nvSpPr>
            <p:cNvPr id="89" name=""/>
            <p:cNvSpPr/>
            <p:nvPr/>
          </p:nvSpPr>
          <p:spPr>
            <a:xfrm>
              <a:off x="6248520" y="50292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00800" y="52578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553080" y="54864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324480" y="57150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72200" y="59436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543800" y="54864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91520" y="510552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91520" y="586728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934320" y="4876920"/>
              <a:ext cx="457200" cy="6094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6934320" y="5486400"/>
              <a:ext cx="457200" cy="6094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1000" y="4876920"/>
              <a:ext cx="457200" cy="6094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8001000" y="5486400"/>
              <a:ext cx="457200" cy="6094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534520" y="5486400"/>
              <a:ext cx="304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7543800" y="5562360"/>
              <a:ext cx="228600" cy="759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43800" y="5334120"/>
              <a:ext cx="228600" cy="759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0880" y="4724280"/>
              <a:ext cx="563112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af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ause-and-Effect diagrams identifies potential causes of failures or defects such as human error or component failure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nfinancial Measures of Qua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ven if a product is defect free and meets conformance quality, it still must satisfy customer need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total customer satisfaction including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eatures that provide fair val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livery when promi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livery a defect-free produ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void early failu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sure that product will not fail excessively in u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cus attention on costs of poor qua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e financial measures to evaluate savings pla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e nonfinancial measures to monitor succ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13 - 71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ting Quality Perform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8440" y="1294920"/>
            <a:ext cx="845028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vantages of Cost of Quality (COQ) Measur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cuses attention on how costly poor quality can b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ws for  comparison of different programs and setting priori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vides a common basis for measuring qua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vantages of nonfinancial measures of qua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asy to quantify and understan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attention at the precise probl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vide intermediate feedback on achiev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vide useful long-run indicators of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71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me As A Competitive Weap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8440" y="1294920"/>
            <a:ext cx="845028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ime is a key variable in competi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ing things faster helps increase revenues and decreas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nk of time in terms of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response time (order receipt to delivery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-Time Performance:  delivered on promised d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time driver is any factor where change in the factor causes a change in the speed of the a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certainty about when the customer will ord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mited capacity and bottleneck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14 - 7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ory of Constrai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8440" y="1295280"/>
            <a:ext cx="84502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ory of Constraints (TOC) describes  methods of maximizing operating income when faced with a bottleneck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roughput contribution:  Sales – direct materi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stments (inventory):  Material inventory, work-in-process, finished goods, R&amp;D, and cost of equipment and building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costs: all operating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bjective of TOC is to increase throughput contribution while decreasing investments and operating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19 - 72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ory of Constraints (Continu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8440" y="1142640"/>
            <a:ext cx="84502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of Bottleneck Resour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that the bottleneck resource determines throughput contribu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arch and find the bottleneck resour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ep the bottleneck operation busy and subordinate all nonbottleneck resources to the bottleneck resour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ke action to increase bottleneck efficiency and capac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20 - 72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8800" y="4952880"/>
            <a:ext cx="845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 of TOC Actions:  eliminate idle time at the bottleneck, eliminate production of nonessential products, reduce setup time at bottleneck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7T00:30:40Z</dcterms:created>
  <dc:creator>User</dc:creator>
  <dc:description/>
  <dc:language>en-US</dc:language>
  <cp:lastModifiedBy>John Moore</cp:lastModifiedBy>
  <cp:lastPrinted>1999-06-07T01:37:54Z</cp:lastPrinted>
  <dcterms:modified xsi:type="dcterms:W3CDTF">2003-03-22T13:22:39Z</dcterms:modified>
  <cp:revision>20</cp:revision>
  <dc:subject/>
  <dc:title>Quality As A Competitive Weapon</dc:title>
</cp:coreProperties>
</file>